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B87-0EA9-46CF-ABE6-8FFC660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156-ADFD-4493-B4B3-098149A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A78-8A5B-4337-8DA3-C1531628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0FE-D8DF-4A25-A722-00C5389B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02B-2837-47DE-A4CD-DB4AED4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9FE-A892-4753-8C51-C2F9318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7F9-31E7-4673-965C-96274C9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6F1-CF7E-4B7F-BB62-E1BA2368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878-EEB5-4B74-9DBD-44F6E1CC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C38-DBF1-4E0B-A3B3-3A58377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F2A-9CC9-4FDF-82B6-92340DB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98D-BCA5-404A-8935-2795409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7A9-DA9A-4A39-88F6-817C497C0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то1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33360"/>
            <a:ext cx="8280360" cy="61912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12"/>
          <p:cNvGraphicFramePr/>
          <p:nvPr/>
        </p:nvGraphicFramePr>
        <p:xfrm>
          <a:off x="1042920" y="1484280"/>
          <a:ext cx="7096320" cy="4611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484280"/>
                    <a:ext cx="709632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3"/>
          <p:cNvSpPr/>
          <p:nvPr/>
        </p:nvSpPr>
        <p:spPr>
          <a:xfrm>
            <a:off x="1908000" y="495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Интересно ли быть ребёнком?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4"/>
          <p:cNvSpPr/>
          <p:nvPr/>
        </p:nvSpPr>
        <p:spPr>
          <a:xfrm>
            <a:off x="6156360" y="1052640"/>
            <a:ext cx="2232000" cy="1473120"/>
          </a:xfrm>
          <a:prstGeom prst="wedgeRoundRectCallout">
            <a:avLst>
              <a:gd name="adj1" fmla="val -76032"/>
              <a:gd name="adj2" fmla="val 8081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213600" y="1168560"/>
            <a:ext cx="231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анный вопр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ыл задан 26 де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89000"/>
            <a:ext cx="8424720" cy="63356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403280" y="351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Почему интересно быть ребёнк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826920" y="1341360"/>
          <a:ext cx="777744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341360"/>
                    <a:ext cx="7777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9" descr="j0335112"/>
          <p:cNvPicPr/>
          <p:nvPr/>
        </p:nvPicPr>
        <p:blipFill>
          <a:blip r:embed="rId4"/>
          <a:stretch/>
        </p:blipFill>
        <p:spPr>
          <a:xfrm>
            <a:off x="6443640" y="3141720"/>
            <a:ext cx="8730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j0295241"/>
          <p:cNvPicPr/>
          <p:nvPr/>
        </p:nvPicPr>
        <p:blipFill>
          <a:blip r:embed="rId5"/>
          <a:stretch/>
        </p:blipFill>
        <p:spPr>
          <a:xfrm>
            <a:off x="4859280" y="2421000"/>
            <a:ext cx="676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j0195384"/>
          <p:cNvPicPr/>
          <p:nvPr/>
        </p:nvPicPr>
        <p:blipFill>
          <a:blip r:embed="rId6"/>
          <a:stretch/>
        </p:blipFill>
        <p:spPr>
          <a:xfrm>
            <a:off x="2340000" y="1125360"/>
            <a:ext cx="1152360" cy="11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j0216724"/>
          <p:cNvPicPr/>
          <p:nvPr/>
        </p:nvPicPr>
        <p:blipFill>
          <a:blip r:embed="rId7"/>
          <a:stretch/>
        </p:blipFill>
        <p:spPr>
          <a:xfrm>
            <a:off x="1042920" y="981000"/>
            <a:ext cx="1225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95280" y="189000"/>
            <a:ext cx="8424720" cy="63356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763640" y="33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Хотят ли дети стать взрослым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фото1"/>
          <p:cNvPicPr/>
          <p:nvPr/>
        </p:nvPicPr>
        <p:blipFill>
          <a:blip r:embed="rId2"/>
          <a:stretch/>
        </p:blipFill>
        <p:spPr>
          <a:xfrm>
            <a:off x="2471760" y="2687760"/>
            <a:ext cx="93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4"/>
          <p:cNvGraphicFramePr/>
          <p:nvPr/>
        </p:nvGraphicFramePr>
        <p:xfrm>
          <a:off x="1116000" y="1600200"/>
          <a:ext cx="7005600" cy="427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600200"/>
                    <a:ext cx="70056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32" descr="j0291984"/>
          <p:cNvPicPr/>
          <p:nvPr/>
        </p:nvPicPr>
        <p:blipFill>
          <a:blip r:embed="rId5"/>
          <a:stretch/>
        </p:blipFill>
        <p:spPr>
          <a:xfrm>
            <a:off x="684360" y="4292640"/>
            <a:ext cx="1807920" cy="1914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6156360" y="1197000"/>
            <a:ext cx="2303280" cy="1584360"/>
          </a:xfrm>
          <a:prstGeom prst="wedgeRoundRectCallout">
            <a:avLst>
              <a:gd name="adj1" fmla="val -83495"/>
              <a:gd name="adj2" fmla="val 8547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300720" y="1268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156360" y="1557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227640" y="1341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ть ребенком интересно! Но все дети хотят стать взрослы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1" descr="j0292020"/>
          <p:cNvPicPr/>
          <p:nvPr/>
        </p:nvPicPr>
        <p:blipFill>
          <a:blip r:embed="rId6"/>
          <a:stretch/>
        </p:blipFill>
        <p:spPr>
          <a:xfrm>
            <a:off x="6877080" y="450864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3" descr="j0240719"/>
          <p:cNvPicPr/>
          <p:nvPr/>
        </p:nvPicPr>
        <p:blipFill>
          <a:blip r:embed="rId7"/>
          <a:stretch/>
        </p:blipFill>
        <p:spPr>
          <a:xfrm>
            <a:off x="468360" y="692280"/>
            <a:ext cx="158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95280" y="189000"/>
            <a:ext cx="8424720" cy="63356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60280"/>
            <a:ext cx="54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ребенком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еть, шутить, игр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азличные вопросы можно взрослым зада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бывает ос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журчит ру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ругает м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цветет сир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апризы выполня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желанья нипоч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игрушек безделу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олнен Отчи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и Лего и констр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ти и каранда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езда машины-гонк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, что нужно для ду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уэр Е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216588"/>
          <p:cNvPicPr/>
          <p:nvPr/>
        </p:nvPicPr>
        <p:blipFill>
          <a:blip r:embed="rId2"/>
          <a:stretch/>
        </p:blipFill>
        <p:spPr>
          <a:xfrm>
            <a:off x="5724360" y="549360"/>
            <a:ext cx="3095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0:41:35Z</dcterms:created>
  <dc:creator>-</dc:creator>
  <dc:description/>
  <dc:language>en-US</dc:language>
  <cp:lastModifiedBy>123</cp:lastModifiedBy>
  <dcterms:modified xsi:type="dcterms:W3CDTF">2009-11-02T15:17:37Z</dcterms:modified>
  <cp:revision>12</cp:revision>
  <dc:subject/>
  <dc:title>Быть ребенком интересно! Можно петь, шутить, играть! И различные вопросы можно взрослым задавать! Почему бывает осень? Почему журчит ручей? Почему ругает мама? Почему цветет сирень? Все капризы выполняют,  Все капризы нипочем! От игрушек безделушек, Переполнен Отчий дом!      Есть и Лего и конструктор Кисти и карандаши, Поезда, машинки-гонки…. Все, что нужно для души!  Каранухова Т.А. </dc:title>
</cp:coreProperties>
</file>